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6A001-9CB3-46B2-A050-01867B9B1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B8EAC-0553-476B-A57A-2E1BC15CF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61C3A-6851-4EE9-BF8C-B5078C184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0542A-A1C8-4817-A4BD-CABAD7B5B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3FF6F-ADC8-4ED5-8946-12D954303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E7F7C-3E1B-4F19-B793-ACD93C4CB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7BAD7-81E3-4081-AF0A-FCA6BFE51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01E89-016E-4440-B801-43637081A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63BAF-E3DA-4090-9502-DB9DA462E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46495-342E-471C-94CD-0B8EB5B4C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AC2FE-415B-4879-98B4-F995C4F17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8518D-B6B3-497B-BFEB-F01FACC6B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56406-BAEB-4A78-B62C-B1E9CB0BC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050A8-8858-47C2-A669-8245DE9B8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6F52F-1DB4-4F2C-B27E-9D53D3751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4E4DA-F4F5-40CD-ADB6-0D22FE1F8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BD0E7-7B7D-47A5-BA28-B13901E2B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7213CD-409B-4714-B140-DD4DA6D2E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E12461-200A-4900-A963-D17C861B4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7EEA73-28BF-446C-AB43-38B13BECC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8BA032-F19C-482C-ADFC-EE06CC7C1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AC743F-374C-4473-8B4A-73FC7EBEF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695E1-17B6-4DB3-AA3E-DE020EE24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73A5F1-AEB8-426E-ADB7-75FB7DBB7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50F718-7479-4C08-ABF6-D147D0D15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C39FC7-B040-4C76-9FA1-85585F615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9C7044-8FB2-42C3-9034-92C338633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B40E82-2E24-4691-9951-CDC167038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ACAD17-848C-464D-8066-5A64E86D1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3F16CF-0BBF-4ACE-BEB8-52F9FAC03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FF4F17-0826-405F-B555-FE47B49E5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FFAA18-4145-44A1-84EE-95AAE5AEC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3A6313-802C-4236-B6AC-24E0BE599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7D77F-8B97-41F4-8466-5B2C0F037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EC3FF0-64E0-47E4-AF7E-14CDF3480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6A5CA9-E0D9-4245-9D88-CDD0A7A87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67643B-6B0C-41B9-BE58-069F9B0A0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1F0ACA-2636-482B-90F7-57A4C51D5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05F7C2-A895-44AA-AEC5-0AD185FCF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BB9885-8BED-438B-A7A7-F6424CA1B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8382F8-FB84-4782-A6A6-5FC7F10E1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B8691D-F60A-46E4-98BB-3A820698E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779CC7-16AA-4154-99A9-2D485DE2F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1E9095-5E44-48A3-ADBE-130E57C0D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3F79A-8229-4255-BD0C-E9A035046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167C5E-D476-4536-954C-D36C92AAD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6DA4D3-F813-42C2-BEDC-0D0AC13DF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1B1A0D-FF6A-4807-86DD-C70D813F8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CDFD2D-D55F-4054-BB75-B4365DDE9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433FC7-0F5D-4822-B5B6-5759DB052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0AE907-F188-45EE-B1B6-DB784EA1C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5B530C-29C5-4180-8DDB-B15114D5E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2CA2A0-2131-4DA4-8215-99A74F946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DD0FA6-9968-40FB-A92C-B627060E1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EF11E9-FC0D-47BD-90DA-1148C7732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A4F89-12B2-4831-A995-FDFAD035F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5DB955-8F88-4D28-A84E-ECF09200C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49CFF5-7FC2-4982-BA40-AF4F4E794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F8155E-F163-4D06-8BF7-96B41C626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800DFE-AFF3-4062-B86A-7A3ED4F21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BB870D-AFDB-48D4-863F-600DEBE82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45E76C-F2F7-4263-B314-D26E7E6E4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D2BBA0-BBDF-46A8-858B-0919F1862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415830-6E42-4E3A-A012-A1A2077CE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94450B-A771-49BD-A2E6-50BE8A09B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38EF72-4053-47EC-B7E9-B18E3D707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0259A-640F-45B1-AFF3-B5D94DD07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345954-B157-4844-A171-CC6112694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4CA22C-A892-4BA4-99BA-B40005421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968910-B388-43F5-8020-ED0825B1C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746F55-FBA0-46F5-8A33-BEDCF6B0C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685D9D-C283-4400-8906-28448BC2F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DE5E79-AADE-41D1-B1FC-B3FE8519F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E7A5DF-96EF-42D9-AAFC-9173DD1B2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00F037-22ED-4AA0-85DA-D02F5C924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082A36-ACD2-4A18-B91C-817E1D56D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76AF31-7CAE-4FDC-B80A-62168C7BB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3DC7D-788E-4DE7-92B7-361A74235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6E22BC-0983-4FEC-8352-2ECD60607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A94E0B-9F18-42D5-901A-3A61C7153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7BCDFA-FC94-4E4C-9A5E-A6617F0A1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95F070-1BC6-4B83-AF28-C0158DE81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815A2B-81AF-4603-81CA-5B4D0CAC3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E817B-507D-4B27-871A-6632F8BFA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FBCA9-5BC5-4A63-8761-B46DECDDB4D9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2F446-F2D5-456D-9984-E79E37F494AA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619E2-2DD3-4135-ADE1-3ACA230F0C51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81C65-CF4E-4095-9647-3D44DB9F4315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3AEFE-12CC-4B00-B873-7E120DB36158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693E4-D48E-44B6-B84A-9D3DD54EB03D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72850-9FD2-4EB5-B729-242BE9724A5C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 txBox="1"/>
          <p:nvPr/>
        </p:nvSpPr>
        <p:spPr>
          <a:xfrm>
            <a:off x="1142640" y="928440"/>
            <a:ext cx="7791480" cy="53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Нужно, чтобы дети, по возможности,  учились самостоятельно,  а  учитель руководил этим самостоятельным процессом и давал для него материал» 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.Д. Ушинский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 txBox="1"/>
          <p:nvPr/>
        </p:nvSpPr>
        <p:spPr>
          <a:xfrm>
            <a:off x="1142640" y="142920"/>
            <a:ext cx="7791480" cy="65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Результативность урока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стижение цели и решение основной дидактической задачи урока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актическая направленность урока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ктическая направленность вопросов, упражнений и задач, предлагаемых для выполнения школьникам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амостоятельная работа школьников как форма организации учебной деятельности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Уровень самостоятельности школьников при решении дидактической задачи урока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Характер самостоятельной учебной деятельности (репродуктивный, творческий)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Взаимопомощь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Формирование универсальных учебных действий на каждом этапе урока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чностные, познавательные, коммуникативные, регулятивные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 txBox="1"/>
          <p:nvPr/>
        </p:nvSpPr>
        <p:spPr>
          <a:xfrm>
            <a:off x="1142640" y="285480"/>
            <a:ext cx="779148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Формирование ИКТ-компетентности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нение ИКТ на уроке, уровень сформированности ИКТ компетентности учащихся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труктура урока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ответствие структуры урока основной дидактической задаче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едагогический стиль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блюдение норм педагогической этики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Гигиенические требования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пературный режим, проветривание класса, чередование видов деятельности, динамические паузы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1213920" y="428760"/>
            <a:ext cx="7929720" cy="581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73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Цели посещения уроков:</a:t>
            </a:r>
            <a:endParaRPr b="0" lang="en-US" sz="29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Изучение практики управления процессом развития творческой и критической  мыслительной деятельности обучающихся</a:t>
            </a:r>
            <a:endParaRPr b="0" lang="en-US" sz="29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Изучение учета психологических особенностей </a:t>
            </a:r>
            <a:r>
              <a:rPr b="1" lang="tt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</a:t>
            </a: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</a:t>
            </a:r>
            <a:r>
              <a:rPr b="1" lang="tt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ю</a:t>
            </a: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щихся. </a:t>
            </a:r>
            <a:endParaRPr b="0" lang="en-US" sz="29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Изучение путей повышения эффективности и качества </a:t>
            </a:r>
            <a:r>
              <a:rPr b="1" lang="tt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овательного </a:t>
            </a: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цесса.                                                                                    </a:t>
            </a:r>
            <a:endParaRPr b="0" lang="en-US" sz="29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Изучение самостоятельной деятельности на уроке.                                                                                     </a:t>
            </a:r>
            <a:endParaRPr b="0" lang="en-US" sz="29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 txBox="1"/>
          <p:nvPr/>
        </p:nvSpPr>
        <p:spPr>
          <a:xfrm>
            <a:off x="1071360" y="571320"/>
            <a:ext cx="7862760" cy="567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) Эффективность деятельности педагогического работника по достижению образовательных результатов. </a:t>
            </a:r>
            <a:endParaRPr b="0" lang="en-US" sz="29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) Организация урока педагогического работника по самоуправлению учебно-познавательной деятельностью обучающихся.                                                                                     </a:t>
            </a:r>
            <a:endParaRPr b="0" lang="en-US" sz="29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) Изучение вопроса организации педагогическим работником эффективного процесса обучения в условиях введения ФГОС.</a:t>
            </a:r>
            <a:endParaRPr b="0" lang="en-US" sz="29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 txBox="1"/>
          <p:nvPr/>
        </p:nvSpPr>
        <p:spPr>
          <a:xfrm>
            <a:off x="1071360" y="928440"/>
            <a:ext cx="7862760" cy="53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Урок должен быть пронизан творчеством и вместе с тем оставаться уроком» </a:t>
            </a:r>
            <a:endParaRPr b="0" lang="en-US" sz="4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.И. Гессен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1143000" y="428760"/>
            <a:ext cx="7858080" cy="581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79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ципы управления учебным процессом:  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ирование;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я;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лизация и контроль;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рекция;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из.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928800" y="285840"/>
            <a:ext cx="8005680" cy="62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ение цели посещения урока, вида и формы контроля. </a:t>
            </a:r>
            <a:endParaRPr b="0" lang="en-US" sz="29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ление программы наблюдения урока, в соответствие с целью. </a:t>
            </a:r>
            <a:endParaRPr b="0" lang="en-US" sz="29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знакомление с учебно-методическими материалами, содержание которых соответствует цели посещения урока. </a:t>
            </a:r>
            <a:endParaRPr b="0" lang="en-US" sz="29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комство с учебной программой проверяемого предмета, с содержанием учебного материала по учебнику. </a:t>
            </a:r>
            <a:endParaRPr b="0" lang="en-US" sz="29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учение записей в классном журнале о выполнении программы, в том числе ее практической части в дневниках учащихся, в их тетрадях, обратив внимание на отметки (их наполняемость, баллы и т.п.), на объем домашних заданий.</a:t>
            </a:r>
            <a:endParaRPr b="0" lang="en-US" sz="29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 txBox="1"/>
          <p:nvPr/>
        </p:nvSpPr>
        <p:spPr>
          <a:xfrm>
            <a:off x="1071360" y="285480"/>
            <a:ext cx="7862760" cy="596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смотр и анализ выводов и предложений, сделанных учителю по ранее посещенному уроку. </a:t>
            </a:r>
            <a:endParaRPr b="0" lang="en-US" sz="29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ение целесообразности приглашения на урок других учителей.</a:t>
            </a:r>
            <a:endParaRPr b="0" lang="en-US" sz="29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дение (при необходимости) предварительной беседы с учителем, знакомство с его замыслом проведения урока, уточнение поурочного плана </a:t>
            </a:r>
            <a:endParaRPr b="0" lang="en-US" sz="29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необходимости - просмотр и проверка календарно-тематического плана.</a:t>
            </a:r>
            <a:endParaRPr b="0" lang="en-US" sz="29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1000080" y="142920"/>
            <a:ext cx="7934400" cy="65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рошо организованный  урок  в хорошо оборудованном кабинете должен </a:t>
            </a:r>
            <a:r>
              <a:rPr b="1" lang="ru-RU" sz="29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иметь хорошее начало и хорошее окончании</a:t>
            </a: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9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должен </a:t>
            </a:r>
            <a:r>
              <a:rPr b="1" lang="ru-RU" sz="29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планировать </a:t>
            </a: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ою деятельность и деятельность учащихся, четко сформулировать тему, цель, задачи урока.</a:t>
            </a:r>
            <a:endParaRPr b="0" lang="en-US" sz="29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ок должен быть </a:t>
            </a:r>
            <a:r>
              <a:rPr b="1" lang="ru-RU" sz="29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облемным и развивающим</a:t>
            </a: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учитель сам нацеливается на сотрудничество с учениками и умеет направлять учеников на </a:t>
            </a:r>
            <a:r>
              <a:rPr b="1" lang="ru-RU" sz="29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отрудничество </a:t>
            </a: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учителем и одноклассниками.</a:t>
            </a:r>
            <a:endParaRPr b="0" lang="en-US" sz="29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организует </a:t>
            </a:r>
            <a:r>
              <a:rPr b="1" lang="ru-RU" sz="29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облемные и поисковые ситуации</a:t>
            </a: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активизирует деятельность учащихся.</a:t>
            </a:r>
            <a:endParaRPr b="0" lang="en-US" sz="29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ru-RU" sz="29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ывод делают сами учащиеся</a:t>
            </a: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9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1142640" y="214200"/>
            <a:ext cx="7791480" cy="642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нимум репродукции </a:t>
            </a:r>
            <a:r>
              <a:rPr b="1" lang="ru-RU" sz="29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и максимум творчества и сотворчества</a:t>
            </a: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9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ремясбережение и здоровьесбережение</a:t>
            </a: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9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центре внимания урока </a:t>
            </a:r>
            <a:r>
              <a:rPr b="1" lang="ru-RU" sz="29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– дети</a:t>
            </a: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9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т </a:t>
            </a:r>
            <a:r>
              <a:rPr b="1" lang="ru-RU" sz="29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уровня и возможностей учащихся</a:t>
            </a: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в котором учтены  такие аспекты, как профиль класса, стремление учащихся, настроение детей.</a:t>
            </a:r>
            <a:endParaRPr b="0" lang="en-US" sz="29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ие демонстрировать </a:t>
            </a:r>
            <a:r>
              <a:rPr b="1" lang="ru-RU" sz="29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методическое искусство учителя</a:t>
            </a: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9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ланирование обратной связи.</a:t>
            </a:r>
            <a:endParaRPr b="0" lang="en-US" sz="29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ок должен быть </a:t>
            </a:r>
            <a:r>
              <a:rPr b="1" lang="ru-RU" sz="29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добрым</a:t>
            </a: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9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 txBox="1"/>
          <p:nvPr/>
        </p:nvSpPr>
        <p:spPr>
          <a:xfrm>
            <a:off x="1547280" y="0"/>
            <a:ext cx="7386840" cy="674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24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сновные компоненты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824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овременного урока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82440" algn="just">
              <a:lnSpc>
                <a:spcPct val="115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онный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82440" algn="just">
              <a:lnSpc>
                <a:spcPct val="115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евой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82440" algn="just">
              <a:lnSpc>
                <a:spcPct val="115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тивационный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82440" algn="just">
              <a:lnSpc>
                <a:spcPct val="115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муникативный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82440" algn="just">
              <a:lnSpc>
                <a:spcPct val="115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держательный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82440" algn="just">
              <a:lnSpc>
                <a:spcPct val="115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хнологический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82440" algn="just">
              <a:lnSpc>
                <a:spcPct val="115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рольно-оценочный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824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итический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1434960" y="142920"/>
            <a:ext cx="7499520" cy="65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из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ока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соответствии с требованиями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ременного урока (согласно с ФГОС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 посещения: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та:                                                                         Класс, учитель: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ичество учащихся в классе:                                  Присутствовали на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оке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а урока:                                                                   Тип урока: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дактическая задача урока: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и урока (образовательная, воспитательная, развивающая):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1213920" y="356760"/>
            <a:ext cx="792972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75400" indent="-275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Дидактическая задача урока (краткий оценочный анализ)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75400" indent="-275400">
              <a:lnSpc>
                <a:spcPct val="100000"/>
              </a:lnSpc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Соответствие дидактической задачи урока отобранному содержанию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75400" indent="-275400">
              <a:lnSpc>
                <a:spcPct val="100000"/>
              </a:lnSpc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Результативность решения дидактической задачи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75400" indent="-275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одержание урока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75400" indent="-275400">
              <a:lnSpc>
                <a:spcPct val="100000"/>
              </a:lnSpc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ответствие основного содержания урока содержанию программы и учебника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75400" indent="-275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Методы обучения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75400" indent="-275400">
              <a:lnSpc>
                <a:spcPct val="100000"/>
              </a:lnSpc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ответствие приемов обучения и учения (методов обучения) решению триединой образовательной цели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75400" indent="-275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Формы обучения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75400" indent="-275400">
              <a:lnSpc>
                <a:spcPct val="100000"/>
              </a:lnSpc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Соответствие форм обучения (фронтальная, групповая, индивидуальная, коллективная)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75400" indent="-275400">
              <a:lnSpc>
                <a:spcPct val="100000"/>
              </a:lnSpc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Целесообразность использования предложенных заданий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75400" indent="-2754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07T22:37:07Z</dcterms:created>
  <dc:creator>Admin</dc:creator>
  <dc:description/>
  <dc:language>en-US</dc:language>
  <cp:lastModifiedBy>Светлана</cp:lastModifiedBy>
  <dcterms:modified xsi:type="dcterms:W3CDTF">2014-04-09T11:39:13Z</dcterms:modified>
  <cp:revision>8</cp:revision>
  <dc:subject/>
  <dc:title>«Контроль  знаний требований  к современному уроку»</dc:title>
</cp:coreProperties>
</file>